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635-D477-4D12-8DBD-E8F203D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405-2F37-49B2-841C-A9FC593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541-AA74-4EFB-AC48-A74D781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3A2-165D-42CE-98BE-5870D441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DD5-6B35-4F51-9834-DDB47246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F5A-04F1-4449-AA92-26D00B6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4F3-DFD6-48FF-9436-AD8E196E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D96-B986-4F2E-B41A-111B3369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514-1EB5-43A2-8498-22EF90F8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19A-3DEB-4BDC-BDDB-6DA0CEF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61A-E8E4-4DCE-9E82-F2C5621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013-22B5-4892-958D-5C85A24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39D-9E1C-4404-BACA-832EFB41E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13400" y="3456000"/>
            <a:ext cx="4478040" cy="336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3480" y="3638520"/>
            <a:ext cx="3300480" cy="2579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8840" y="62182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8840" y="578484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8840" y="53611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8840" y="492912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8840" y="449568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8840" y="407196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8840" y="36385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61348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27696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93108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94560" y="6217920"/>
            <a:ext cx="18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250120" y="6217920"/>
            <a:ext cx="18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91396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3830760"/>
            <a:ext cx="33660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76960" y="4937040"/>
            <a:ext cx="32688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3840" y="5294160"/>
            <a:ext cx="32724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1080" y="5460840"/>
            <a:ext cx="33660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67680" y="5543640"/>
            <a:ext cx="32688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94560" y="5584680"/>
            <a:ext cx="3286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923240" y="5576400"/>
            <a:ext cx="32688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4395960"/>
            <a:ext cx="33660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76960" y="5219640"/>
            <a:ext cx="32688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03840" y="5477040"/>
            <a:ext cx="32724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1080" y="5594400"/>
            <a:ext cx="3366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67680" y="5643720"/>
            <a:ext cx="3268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94560" y="5635800"/>
            <a:ext cx="3286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923240" y="5584680"/>
            <a:ext cx="32688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3360" y="380520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9960" y="4911840"/>
            <a:ext cx="5400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7" y="0"/>
                </a:moveTo>
                <a:lnTo>
                  <a:pt x="34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76840" y="526896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05520" y="543564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0"/>
                </a:moveTo>
                <a:lnTo>
                  <a:pt x="33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40680" y="5519880"/>
            <a:ext cx="5400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7" y="0"/>
                </a:moveTo>
                <a:lnTo>
                  <a:pt x="34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9360" y="5560920"/>
            <a:ext cx="5220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0"/>
                </a:moveTo>
                <a:lnTo>
                  <a:pt x="33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96240" y="5568840"/>
            <a:ext cx="5220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0"/>
                </a:moveTo>
                <a:lnTo>
                  <a:pt x="33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3120" y="555156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13360" y="437184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5194440"/>
            <a:ext cx="540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6840" y="545292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5520" y="5568840"/>
            <a:ext cx="5256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0680" y="5618160"/>
            <a:ext cx="540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9360" y="5627520"/>
            <a:ext cx="522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6240" y="5610240"/>
            <a:ext cx="522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3120" y="556092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35280" y="6151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5760" y="571824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5760" y="52941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5760" y="486252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5760" y="442908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8840" y="400536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8840" y="357336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7640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168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580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928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1484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41960" y="633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2680" y="6541920"/>
            <a:ext cx="119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maining, n, y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3831480" y="4762800"/>
            <a:ext cx="196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Equivalent annual charge (E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13400" y="3456000"/>
            <a:ext cx="4478040" cy="33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91440" y="429588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1440" y="571500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3357720"/>
            <a:ext cx="5707080" cy="3500280"/>
            <a:chOff x="0" y="3357720"/>
            <a:chExt cx="5707080" cy="3500280"/>
          </a:xfrm>
        </p:grpSpPr>
        <p:sp>
          <p:nvSpPr>
            <p:cNvPr id="105" name=""/>
            <p:cNvSpPr/>
            <p:nvPr/>
          </p:nvSpPr>
          <p:spPr>
            <a:xfrm>
              <a:off x="0" y="3357720"/>
              <a:ext cx="5707080" cy="35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9400" y="3565440"/>
              <a:ext cx="2949480" cy="2698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2680" y="6264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12680" y="5931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12680" y="55897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2680" y="5256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2680" y="49132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2680" y="4581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12680" y="42386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12680" y="39067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12680" y="3564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04940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52568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00340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7968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5740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368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90996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479680" y="3784680"/>
              <a:ext cx="9828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25320" y="4863960"/>
              <a:ext cx="98244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79680" y="4745160"/>
              <a:ext cx="9828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5320" y="4853160"/>
              <a:ext cx="982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79680" y="4308480"/>
              <a:ext cx="98280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525320" y="4857840"/>
              <a:ext cx="98244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479680" y="4857480"/>
              <a:ext cx="98280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525320" y="4325760"/>
              <a:ext cx="9824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479680" y="4854240"/>
              <a:ext cx="982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1525320" y="4619520"/>
              <a:ext cx="9824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479680" y="4854240"/>
              <a:ext cx="982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5320" y="4611600"/>
              <a:ext cx="98244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479680" y="4853160"/>
              <a:ext cx="9828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525320" y="4718160"/>
              <a:ext cx="9824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479680" y="4853160"/>
              <a:ext cx="982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525320" y="4752720"/>
              <a:ext cx="982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16400" y="374652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2"/>
                  </a:lnTo>
                  <a:lnTo>
                    <a:pt x="11" y="23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62040" y="4826160"/>
              <a:ext cx="4320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2"/>
                  </a:lnTo>
                  <a:lnTo>
                    <a:pt x="11" y="23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08040" y="5897520"/>
              <a:ext cx="42840" cy="42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23" y="11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06680" y="4716360"/>
              <a:ext cx="558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2680" y="4824360"/>
              <a:ext cx="5544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8680" y="4923000"/>
              <a:ext cx="5544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6400" y="427680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2040" y="4826160"/>
              <a:ext cx="4320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08040" y="5375160"/>
              <a:ext cx="42840" cy="42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06680" y="5346720"/>
              <a:ext cx="5580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52680" y="4824360"/>
              <a:ext cx="5544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680" y="4292640"/>
              <a:ext cx="5544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97320" y="504972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06680" y="5057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33680" y="508464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406680" y="508464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433680" y="5057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43320" y="4816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452320" y="482400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9680" y="4851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452320" y="4851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479680" y="482400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0760" y="4583160"/>
              <a:ext cx="91800" cy="8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498320" y="45896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5680" y="46162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98320" y="46162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25680" y="45896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6400" y="505944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62040" y="4826160"/>
              <a:ext cx="432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8040" y="458316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7320" y="4951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433680" y="4959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33680" y="498636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06680" y="498636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3680" y="498636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3320" y="4816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479680" y="4824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9680" y="485136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52320" y="4851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79680" y="4851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90760" y="4681440"/>
              <a:ext cx="918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5680" y="4689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5680" y="471636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98320" y="4716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5680" y="4716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6680" y="4905360"/>
              <a:ext cx="5580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680" y="4824360"/>
              <a:ext cx="554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98680" y="4724280"/>
              <a:ext cx="554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040" y="619272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0040" y="58611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040" y="5518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5680" y="518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4600" y="4843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4600" y="4510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600" y="41688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600" y="3835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4600" y="349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67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396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1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1600" y="636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75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196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2824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3400" y="6570720"/>
              <a:ext cx="160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 Change from Base 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95400" y="48236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2960" y="426564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53040" y="424188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1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22960" y="418608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2960" y="445464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43320" y="4427640"/>
              <a:ext cx="558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2240" y="437508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Gro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2960" y="464328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3040" y="461952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22960" y="4564080"/>
              <a:ext cx="106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 Volu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52960" y="483228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3320" y="4805280"/>
              <a:ext cx="5580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2600" y="475308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2960" y="502128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3960" y="4987800"/>
              <a:ext cx="93600" cy="8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243320" y="49939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21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243320" y="5021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270320" y="49939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22240" y="49417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52960" y="521172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518652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3320" y="513252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2960" y="540072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3960" y="536580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270320" y="537336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70320" y="54007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243320" y="54007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0320" y="54007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1880" y="532116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 R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2960" y="558972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3320" y="5562720"/>
              <a:ext cx="5580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22240" y="5510160"/>
              <a:ext cx="79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600120" y="1606680"/>
            <a:ext cx="5664240" cy="3816360"/>
            <a:chOff x="600120" y="1606680"/>
            <a:chExt cx="5664240" cy="3816360"/>
          </a:xfrm>
        </p:grpSpPr>
        <p:sp>
          <p:nvSpPr>
            <p:cNvPr id="238" name=""/>
            <p:cNvSpPr/>
            <p:nvPr/>
          </p:nvSpPr>
          <p:spPr>
            <a:xfrm>
              <a:off x="600120" y="1606680"/>
              <a:ext cx="5664240" cy="381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3160" y="27766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35440" y="31399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9480" y="28116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36880" y="35971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8800" y="3795840"/>
              <a:ext cx="8280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95400" y="3835440"/>
              <a:ext cx="56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2200" y="3197160"/>
              <a:ext cx="10656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5400" y="44276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3" idx="3"/>
              <a:endCxn id="246" idx="1"/>
            </p:cNvCxnSpPr>
            <p:nvPr/>
          </p:nvCxnSpPr>
          <p:spPr>
            <a:xfrm>
              <a:off x="1641240" y="3838680"/>
              <a:ext cx="254520" cy="63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1900080" y="320508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48" idx="1"/>
              <a:endCxn id="245" idx="2"/>
            </p:cNvCxnSpPr>
            <p:nvPr/>
          </p:nvCxnSpPr>
          <p:spPr>
            <a:xfrm flipV="1">
              <a:off x="1899720" y="3250440"/>
              <a:ext cx="7628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50" name=""/>
            <p:cNvSpPr/>
            <p:nvPr/>
          </p:nvSpPr>
          <p:spPr>
            <a:xfrm>
              <a:off x="2662200" y="44244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46" idx="1"/>
              <a:endCxn id="252" idx="0"/>
            </p:cNvCxnSpPr>
            <p:nvPr/>
          </p:nvCxnSpPr>
          <p:spPr>
            <a:xfrm>
              <a:off x="1895040" y="4474800"/>
              <a:ext cx="777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>
              <a:stCxn id="245" idx="7"/>
              <a:endCxn id="241" idx="1"/>
            </p:cNvCxnSpPr>
            <p:nvPr/>
          </p:nvCxnSpPr>
          <p:spPr>
            <a:xfrm flipV="1">
              <a:off x="2752200" y="2858400"/>
              <a:ext cx="197640" cy="354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5" idx="5"/>
              <a:endCxn id="242" idx="1"/>
            </p:cNvCxnSpPr>
            <p:nvPr/>
          </p:nvCxnSpPr>
          <p:spPr>
            <a:xfrm>
              <a:off x="2752560" y="3289320"/>
              <a:ext cx="185040" cy="35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41" idx="1"/>
              <a:endCxn id="256" idx="1"/>
            </p:cNvCxnSpPr>
            <p:nvPr/>
          </p:nvCxnSpPr>
          <p:spPr>
            <a:xfrm>
              <a:off x="2949480" y="2859120"/>
              <a:ext cx="682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42" idx="1"/>
              <a:endCxn id="258" idx="0"/>
            </p:cNvCxnSpPr>
            <p:nvPr/>
          </p:nvCxnSpPr>
          <p:spPr>
            <a:xfrm>
              <a:off x="2936520" y="3644640"/>
              <a:ext cx="68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6" idx="3"/>
              <a:endCxn id="260" idx="1"/>
            </p:cNvCxnSpPr>
            <p:nvPr/>
          </p:nvCxnSpPr>
          <p:spPr>
            <a:xfrm flipV="1">
              <a:off x="3714840" y="2547720"/>
              <a:ext cx="126000" cy="313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6" idx="3"/>
              <a:endCxn id="240" idx="1"/>
            </p:cNvCxnSpPr>
            <p:nvPr/>
          </p:nvCxnSpPr>
          <p:spPr>
            <a:xfrm>
              <a:off x="3714480" y="2860200"/>
              <a:ext cx="121320" cy="327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1"/>
              <a:endCxn id="263" idx="2"/>
            </p:cNvCxnSpPr>
            <p:nvPr/>
          </p:nvCxnSpPr>
          <p:spPr>
            <a:xfrm flipV="1">
              <a:off x="3840120" y="2545560"/>
              <a:ext cx="77688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40" idx="1"/>
              <a:endCxn id="265" idx="0"/>
            </p:cNvCxnSpPr>
            <p:nvPr/>
          </p:nvCxnSpPr>
          <p:spPr>
            <a:xfrm>
              <a:off x="3835080" y="3187800"/>
              <a:ext cx="7801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3840120" y="25002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5353920" y="27802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4601160" y="31449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4120" y="2998800"/>
              <a:ext cx="5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27360" y="452268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i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68480" y="26226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60560" y="342252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22840" y="318600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Bu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9000" y="21700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9000" y="26956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12840" y="498780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8240" y="49068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83040" y="49831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89240" y="49086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869640" y="498852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7040" y="49086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2040" y="281772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6280" y="2492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658240" y="443088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3610800" y="36007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>
              <a:stCxn id="263" idx="7"/>
              <a:endCxn id="281" idx="1"/>
            </p:cNvCxnSpPr>
            <p:nvPr/>
          </p:nvCxnSpPr>
          <p:spPr>
            <a:xfrm flipV="1">
              <a:off x="4708440" y="2273040"/>
              <a:ext cx="145440" cy="235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4853160" y="22255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1" idx="1"/>
              <a:endCxn id="283" idx="0"/>
            </p:cNvCxnSpPr>
            <p:nvPr/>
          </p:nvCxnSpPr>
          <p:spPr>
            <a:xfrm>
              <a:off x="4853160" y="2273040"/>
              <a:ext cx="51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63" idx="5"/>
              <a:endCxn id="239" idx="1"/>
            </p:cNvCxnSpPr>
            <p:nvPr/>
          </p:nvCxnSpPr>
          <p:spPr>
            <a:xfrm>
              <a:off x="4708440" y="2584440"/>
              <a:ext cx="145440" cy="24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39" idx="1"/>
              <a:endCxn id="266" idx="0"/>
            </p:cNvCxnSpPr>
            <p:nvPr/>
          </p:nvCxnSpPr>
          <p:spPr>
            <a:xfrm>
              <a:off x="4853160" y="2823840"/>
              <a:ext cx="51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6" name=""/>
            <p:cNvSpPr/>
            <p:nvPr/>
          </p:nvSpPr>
          <p:spPr>
            <a:xfrm>
              <a:off x="4784760" y="1893960"/>
              <a:ext cx="87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y G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5353920" y="22294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6440" y="2822400"/>
              <a:ext cx="8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8" name=""/>
            <p:cNvCxnSpPr>
              <a:stCxn id="243" idx="3"/>
              <a:endCxn id="248" idx="1"/>
            </p:cNvCxnSpPr>
            <p:nvPr/>
          </p:nvCxnSpPr>
          <p:spPr>
            <a:xfrm flipV="1">
              <a:off x="1641600" y="3252240"/>
              <a:ext cx="259200" cy="58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3889440" y="229068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87680" y="228132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9080" y="299880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63920" y="260496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65400" y="357984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41:43Z</dcterms:created>
  <dc:creator>Frank</dc:creator>
  <dc:description/>
  <dc:language>en-US</dc:language>
  <cp:lastModifiedBy>frank crundwell</cp:lastModifiedBy>
  <dcterms:modified xsi:type="dcterms:W3CDTF">2007-08-16T17:16:00Z</dcterms:modified>
  <cp:revision>26</cp:revision>
  <dc:subject/>
  <dc:title>PowerPoint Presentation</dc:title>
</cp:coreProperties>
</file>